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2.png" ContentType="image/png"/>
  <Override PartName="/ppt/media/image24.jpeg" ContentType="image/jpeg"/>
  <Override PartName="/ppt/media/image21.jpeg" ContentType="image/jpeg"/>
  <Override PartName="/ppt/media/image20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3.png" ContentType="image/png"/>
  <Override PartName="/ppt/media/image10.jpeg" ContentType="image/jpeg"/>
  <Override PartName="/ppt/media/image8.jpeg" ContentType="image/jpeg"/>
  <Override PartName="/ppt/media/image29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2F575-1863-4B07-91E4-ED844474C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2FCFB-120A-4DB4-AB45-3695DBAFB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284FB-69B2-4E7C-9BA0-FCE328C86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37CFA-33FB-4D35-BDC8-98B44D849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238BE-2E22-4182-B321-FF44B4DE0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FC052-5F7F-4D2A-B896-EAAEF8C2C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F1DE4-1B3A-426D-88D5-747E4A063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53312-EE39-45AD-B702-391835F93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A84CC-AD52-49B2-817A-2F0EAF375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3034E-CC2E-45BB-B161-923C693AA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7C263-4D54-4E0D-A950-58F684280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62E0A-01F3-4BE1-8A6E-3BEABCDAA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2928F-6EA0-40CF-881F-02DB90997D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836640"/>
            <a:ext cx="9144000" cy="51433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2050920" y="2492280"/>
            <a:ext cx="583272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ПОВАР - КОНДИТЕР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384120"/>
            <a:ext cx="9144000" cy="60897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0" y="378000"/>
            <a:ext cx="9144000" cy="61005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0" y="639720"/>
            <a:ext cx="9144000" cy="55767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0" y="698400"/>
            <a:ext cx="9144000" cy="54594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28600" y="0"/>
            <a:ext cx="86868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369720"/>
            <a:ext cx="9144000" cy="61185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0" y="382680"/>
            <a:ext cx="9144000" cy="60926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39640" y="0"/>
            <a:ext cx="806472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41120" y="0"/>
            <a:ext cx="885996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853920"/>
            <a:ext cx="9144000" cy="51483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378000"/>
            <a:ext cx="9144000" cy="61005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1190520"/>
            <a:ext cx="9144000" cy="44769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74600" y="0"/>
            <a:ext cx="879336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480" y="0"/>
            <a:ext cx="902304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1044720"/>
            <a:ext cx="9144000" cy="47685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030320" y="0"/>
            <a:ext cx="708192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382680"/>
            <a:ext cx="9144000" cy="60912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519120"/>
            <a:ext cx="9144000" cy="58183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3480" y="0"/>
            <a:ext cx="907704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266760"/>
            <a:ext cx="9144000" cy="632448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Arial"/>
              </a:rPr>
              <a:t>ПОВАР-КОНДИТЕР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– специалист, умеющий изготавливать кондитерские изделия и десерт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446040"/>
            <a:ext cx="9144000" cy="59641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1465200"/>
            <a:ext cx="9144000" cy="39258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165240"/>
            <a:ext cx="9144000" cy="65275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703440"/>
            <a:ext cx="9144000" cy="544968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380880"/>
            <a:ext cx="9144000" cy="60962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132000" y="1557360"/>
            <a:ext cx="3475080" cy="515628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2050920" y="836640"/>
            <a:ext cx="5977080" cy="1152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Приятного аппетита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Подводим итог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99"/>
                </a:solidFill>
                <a:latin typeface="Arial"/>
              </a:rPr>
              <a:t>ПОВАР-КОНДИТЕР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рофессионально-важные качества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олжен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любить готовит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еобходимы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хорошая памят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в том числе вкусовая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творческо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воображени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тонкий вкус и обоняни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Хорошая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координация движений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на уровне рук)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глазомер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воспроизводящее воображение (способность, глядя на рецепт, представить внешний вид и вкус блюда)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ответственност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честност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ондитеру нужна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физическая выносливост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При поточном производстве приходится работать в высоком темпе, а если на производстве нет автоматизации, это означает большие физические нагруз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Медицинские противопоказан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болезни опорно-двигательного аппарата, сердечнососудистой системы,  аллергии на пищевые продукты, хронические заболевания органов пищеварения, органов дыхания, органов зрения, кожи с локализацией на кистях ру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Абсолютно недопустимы инфекционные и нервные болез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838080"/>
            <a:ext cx="9144000" cy="51818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341360"/>
            <a:ext cx="9144000" cy="51451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404640"/>
            <a:ext cx="85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99"/>
                </a:solidFill>
                <a:latin typeface="Arial"/>
              </a:rPr>
              <a:t>ПРОФЕССИОНАЛЬНАЯ ПРОБ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55640" y="1628640"/>
            <a:ext cx="7199280" cy="421668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68360" y="189000"/>
            <a:ext cx="8424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99"/>
                </a:solidFill>
                <a:latin typeface="Arial"/>
              </a:rPr>
              <a:t>Трайфл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традиционный английский десер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переводе с английского - «Мелочь», «Пустячок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Arial"/>
              </a:rPr>
              <a:t>Правила работ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еред началом работ надеть форму, перчатк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иготовление десерта описано в технологической карте. Соблюдайте технологию приготовл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мните о правилах безопасной работы с ножом и электрическим миксер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ремя приготовления 15 минут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79280" y="1844640"/>
            <a:ext cx="4537080" cy="453708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9280" y="260280"/>
            <a:ext cx="4537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00"/>
                </a:solidFill>
                <a:latin typeface="Arial"/>
              </a:rPr>
              <a:t>Трайф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00"/>
                </a:solidFill>
                <a:latin typeface="Arial"/>
              </a:rPr>
              <a:t>«Кофе-брейк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32360" y="260280"/>
            <a:ext cx="4032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99"/>
                </a:solidFill>
                <a:latin typeface="Arial"/>
              </a:rPr>
              <a:t>Трайф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99"/>
                </a:solidFill>
                <a:latin typeface="Arial"/>
              </a:rPr>
              <a:t>«Фруктовый (ягодный)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262480" y="1844640"/>
            <a:ext cx="3608640" cy="451008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cc00"/>
                </a:solidFill>
                <a:latin typeface="Arial"/>
              </a:rPr>
              <a:t>РЕЦЕП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457200" y="765000"/>
          <a:ext cx="8229600" cy="49262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230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996600"/>
                          </a:solidFill>
                          <a:latin typeface="Arial"/>
                        </a:rPr>
                        <a:t>Трайфл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996600"/>
                          </a:solidFill>
                          <a:latin typeface="Arial"/>
                        </a:rPr>
                        <a:t>«Кофе-брейк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3399"/>
                          </a:solidFill>
                          <a:latin typeface="Arial"/>
                        </a:rPr>
                        <a:t>Трайфл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3399"/>
                          </a:solidFill>
                          <a:latin typeface="Arial"/>
                        </a:rPr>
                        <a:t>«Фруктовый (ягодный)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слой (нижний) – бисквит, пропитанный холодным коф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слой (нижний) – бисквит, пропитанный ягодным сиропо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слой - ванильный кре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слой – сироп (варенье из ягод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слой – нарезанные банан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слой – нарезанные фрукты или ягод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слой - сливки, взбитые с сахарной пудро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слой - ванильный кре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6,7,8 слои повторяют 1,2,3,4 сло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слой – сливки, взбитые с сахарной пудро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2-19T19:14:04Z</dcterms:created>
  <dc:creator>Александр</dc:creator>
  <dc:description/>
  <dc:language>en-US</dc:language>
  <cp:lastModifiedBy>Александр</cp:lastModifiedBy>
  <dcterms:modified xsi:type="dcterms:W3CDTF">2017-12-21T02:47:06Z</dcterms:modified>
  <cp:revision>4</cp:revision>
  <dc:subject/>
  <dc:title>Слайд 1</dc:title>
</cp:coreProperties>
</file>